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2462-5341-46F0-A929-5CE581B90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E170-27E7-4BBD-8CEA-534B9A8CB5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D651-A00D-45D7-8ADF-9791D87E5B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88B1-C11F-4CF2-966C-58EFCE379B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F60B-8D3E-41C1-B804-8D87B46CA7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5F7D-7E88-40A0-B0CE-0AD786C9F3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04B9-EE68-49FD-B305-EBEB8314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B9389-740B-47DA-9F27-5756DAEA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A0DB-250D-49E2-8441-C71EBB74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7674-31AE-49B3-A8EA-FFA229FA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00FA-6FAF-4DF4-A0D0-3BDA74D0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3DAB-D1C8-46EE-AFC8-98296FA8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C2D3-E1C6-49A4-A15B-289422B0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1B8A-78A8-4504-BE8A-448AFA38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56CE-2F44-4727-AAA6-0BE3F9F5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4592-B16E-4DFB-8D2F-3228E2CF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13CC-67DC-4312-8CEF-C1FF58ED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4F4F-B08D-455B-A57D-52D9B06E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EDB7-C77C-4706-A88E-95A2FCFF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1534-8986-45F8-A30B-CC870F00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857F-27FC-4442-BE79-39123F84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96A6-9A5E-4FE3-9DBF-00DAD3AF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DABD-3263-4180-8FDB-F1EADD29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3163-B0B4-45DA-8355-96F50CC7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37D1-C730-4A79-829F-18F12DF0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B430-AA10-47CD-99EF-CD9BA887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2864-D541-4D7A-8977-F134EAE9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ADAB-BD6B-4664-BB78-0319678D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7E09C-5AD6-438D-AD93-7B95EFFE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E819-AD0A-4C76-B019-62D64EB8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B132-98FC-4CB2-8F34-D624C2B46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F2D9-CC0E-4071-892E-4E0AE22DFF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This is why I’m ho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xtreme unequal wealt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tory owners have more money then 95 percent of society can even imag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money is being made from poor children and wo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defend themselv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5" descr="image_wealth"/>
          <p:cNvPicPr/>
          <p:nvPr/>
        </p:nvPicPr>
        <p:blipFill>
          <a:blip r:embed="rId4"/>
          <a:stretch/>
        </p:blipFill>
        <p:spPr>
          <a:xfrm>
            <a:off x="6324480" y="3886200"/>
            <a:ext cx="23148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do you think? A/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should have a minimum w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vernment should offer programs to struggling famil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should prevent: ignorant, criminal, weak people from reproducing (or limit amount of childr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arwin's Theor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y originally implies that stronger animals kill weaker 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 nature by leaving only stro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5" descr="r?t=a&amp;d=us&amp;s=a&amp;c=p&amp;ti=1&amp;ai=30751&amp;l=dir&amp;o=0&amp;sv=0a30051a&amp;ip=465e209c&amp;u=http%3A%2F%2Fwww"/>
          <p:cNvPicPr/>
          <p:nvPr/>
        </p:nvPicPr>
        <p:blipFill>
          <a:blip r:embed="rId3"/>
          <a:stretch/>
        </p:blipFill>
        <p:spPr>
          <a:xfrm>
            <a:off x="7823160" y="0"/>
            <a:ext cx="1320840" cy="17524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giraffe_dog"/>
          <p:cNvPicPr/>
          <p:nvPr/>
        </p:nvPicPr>
        <p:blipFill>
          <a:blip r:embed="rId4"/>
          <a:stretch/>
        </p:blipFill>
        <p:spPr>
          <a:xfrm>
            <a:off x="0" y="4343400"/>
            <a:ext cx="2281320" cy="25146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8" descr="MCj02154980000[1]"/>
          <p:cNvPicPr/>
          <p:nvPr/>
        </p:nvPicPr>
        <p:blipFill>
          <a:blip r:embed="rId5"/>
          <a:stretch/>
        </p:blipFill>
        <p:spPr>
          <a:xfrm>
            <a:off x="3429000" y="2590920"/>
            <a:ext cx="1417680" cy="38098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9" descr="MCj02154980000[1]"/>
          <p:cNvPicPr/>
          <p:nvPr/>
        </p:nvPicPr>
        <p:blipFill>
          <a:blip r:embed="rId6"/>
          <a:stretch/>
        </p:blipFill>
        <p:spPr>
          <a:xfrm>
            <a:off x="5105520" y="4724280"/>
            <a:ext cx="1417680" cy="16765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0" descr="MCj04417080000[1]"/>
          <p:cNvPicPr/>
          <p:nvPr/>
        </p:nvPicPr>
        <p:blipFill>
          <a:blip r:embed="rId7"/>
          <a:stretch/>
        </p:blipFill>
        <p:spPr>
          <a:xfrm>
            <a:off x="5105520" y="2590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1"/>
          <p:cNvSpPr/>
          <p:nvPr/>
        </p:nvSpPr>
        <p:spPr>
          <a:xfrm>
            <a:off x="3583080" y="63244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ENZ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5336280" y="632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y not huma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ry is used to construct Social Darwi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s belief that wealthy factory owners are naturally stro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ing the poor would only weaken human 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7" descr="Mario Bros. Survival of the Fittest  T-Shirt"/>
          <p:cNvPicPr/>
          <p:nvPr/>
        </p:nvPicPr>
        <p:blipFill>
          <a:blip r:embed="rId4"/>
          <a:stretch/>
        </p:blipFill>
        <p:spPr>
          <a:xfrm>
            <a:off x="4648320" y="1600200"/>
            <a:ext cx="4403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ther view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l Marx – believed struggle between rich and poor would always lead to confli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eliminate rich and poor which will eliminate confli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th of Commu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5" descr="r?t=a&amp;d=us&amp;s=a&amp;c=p&amp;ti=1&amp;ai=30751&amp;l=dir&amp;o=0&amp;sv=0a300513&amp;ip=465e209c&amp;u=http%3A%2F%2Fwww"/>
          <p:cNvPicPr/>
          <p:nvPr/>
        </p:nvPicPr>
        <p:blipFill>
          <a:blip r:embed="rId4"/>
          <a:stretch/>
        </p:blipFill>
        <p:spPr>
          <a:xfrm>
            <a:off x="5486400" y="3352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0 Policie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olition of property in land and application of all rents of land to public purpo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heavy progressive or graduated income t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olition of all right of inheri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scation of the property of all emigrants and reb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ization of credit in the hands of the state, by means of a national bank with state capital and an exclusive monopo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ization of the means of communication and transport in the hands of the 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 of factories and instruments of production owned by the state, the bringing into cultivation of waste lands, and the improvement of the soil generally in accordance with a common pl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al obligation of all to work.  Establishment of industrial armies, especially for agricul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ination of agriculture with manufacturing industries; gradual abolition of the distinction between town and country, by a more equable distribution of the population over the coun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. Free education for all children in public schools.  Abolition of child factory labor in its present form.  Combination of education with industrial production,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Social Darwinism justif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re any support for Social Darwinis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Marx correct, is the study of history the study of class strugg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theory would conservatives support?  Libera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3:39:20Z</dcterms:created>
  <dc:creator>Will Hall</dc:creator>
  <dc:description/>
  <dc:language>en-US</dc:language>
  <cp:lastModifiedBy>Kuenzi</cp:lastModifiedBy>
  <dcterms:modified xsi:type="dcterms:W3CDTF">2010-04-22T14:37:09Z</dcterms:modified>
  <cp:revision>8</cp:revision>
  <dc:subject/>
  <dc:title>Why do I have all this money</dc:title>
</cp:coreProperties>
</file>